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514-DF51-4013-9768-41191A6B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506-1EC5-4CF7-9F99-0EFCF3A6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A0753-60EA-486B-8F62-107B75EB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C021A-3696-4CAF-A3E7-68F4F4D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7C538-CE39-48E0-AAAD-30CEBC05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ADB18-2C25-4792-A457-FB576133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A6DF6-26A0-4396-A8ED-04AB804C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91A1D-13CC-4474-B60F-3DD00FD6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D7F07-5D23-4DB7-B8DD-A11E052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DEDCF-CD46-4032-93A5-103B83E7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8A74E-6E39-49D4-B994-0F9BFD69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4D68D-18A2-45FC-A4D7-D62A281C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3BB-7E11-46C1-935C-EB92F561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92C0A-1839-44AA-99EC-1CA2506E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9BB7F-F2DB-4D2F-87EE-5B012E28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B3838-278F-4CF6-916D-70F7E5C8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116BA-FACE-4A75-9E53-44294AE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15DEA-291B-4948-A7BB-1B411AF2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DE51F-D8CC-4D1C-BCB7-FA5D0B8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02389-DBCA-481A-BAFD-39CCC60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D6AA9-A0EE-4919-9513-433A2AE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DF697-AB6C-4420-ABBF-F0503DF1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8ACC4-0DB9-4A56-A4B7-8F337841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CD8-61C9-48A6-8642-1FF5C86D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1E42F-B81B-483F-B799-31A6F0B8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24BA6-D0E6-470F-8DD6-1EBDB746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3624A-5554-422C-95F1-1F009175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12263-C44F-4D06-83EF-5F14BCA9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C5E34-7EBA-4469-A5B0-D82FAF7E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91922-426C-48F8-81D1-353096AC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118DE-3395-4ED5-B773-A47360DC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AC673-DA00-450E-A869-DF6EC321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6755E-B160-4DB4-86EE-85CF29A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51842-25A9-4EFD-B1BA-1D4EFFB7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64B2-1567-4B93-B700-25AC8F8D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8A627-4963-4A2A-9B8D-02EE97F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39862-6D8E-4F18-83FD-49871B89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67993-75FD-40DD-AFA4-453860D2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C48C7-C917-47B0-BF33-A2F37266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7F070-92CC-492A-A8C3-3A4688E0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AACB5-458C-4DA8-A482-DFF3580B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DA1C2-DD25-4BF5-87E1-AD55541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6712A-9E25-4A91-83DA-B08A86DB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78C78-7682-4AD8-BEB0-39F1476E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FD9BB-2C3C-4062-8BCE-B9660D21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10B2-3BA0-4577-8E7B-760EB61E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D52FB-49F7-4029-B8B1-B8501BDF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C2A76-C1BB-4666-BE68-FCBDE1C9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E9CF3-8372-4BEC-83C6-749E17FE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1086C-24AF-4A06-85BD-068E7B9B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3014E-F23A-4570-8C4C-5FB291BE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B339F-54FA-4C8F-8AEC-1B6B3545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A4B5F-C3F5-475C-9569-BFF152D1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7FE05-E4C6-4DB5-B099-5C9AB141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88F2A-8253-400F-8C79-6EF199DA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6545B-0C1E-47E5-AC73-9ABAF399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B9B6-09B7-47B9-A164-73ABA4CE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A1936-FC64-485D-9F69-A67673FC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9E4EC-578E-4F31-9E59-64F9151A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3F54D-4F9B-47BC-99CE-4B77FCB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BE5EC-E086-4ADA-9362-ADA9EE9B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5BD22-4E5A-42C1-A565-BDE4175D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E7B83-38FB-4AE4-92C9-82993735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F1083-B945-4E4A-B10F-434FD845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E44B-CF66-4ED0-8BB2-A91861D6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E2BA-9164-49D7-B74D-DE7E15B8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1517-D572-45AA-B88F-5518D917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73A5-661A-4853-BF09-044AADD8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265-DAC2-4A2E-BDAC-5D815839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6EDE-D570-4D5A-9A74-7F1524C9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8536-57FD-49DF-8E3C-8822FE66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B1BE-0C28-4C82-BC10-F4800E1B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CD76-BA1B-4E80-9FF0-2B461ABC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DD0C-BCEE-4D97-9EB0-66D9E92C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4A38-9C6B-4EB6-9D4C-91A41B9D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7299-4225-426C-9D18-6D4CAAD2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24D7-CB01-4B6D-8709-EC9EB4E9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E5E1-EA77-4D19-8CC9-784D78D5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CE2D-C690-497C-8DAE-A79260AA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CE0-C058-4AED-9BF3-7956AE83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9ADD-55A7-47C0-92C3-03804EF6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E78DA-4D6A-49F8-90BA-5C0AE25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DB64-922C-4E9D-9206-369D9B16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6168-468C-404D-8736-336807D4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99D3-5E2B-46E3-BFF4-3C089CD5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2408-755D-48AF-B995-BA7E856E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BFD1-B19D-4533-B1B7-9939050E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5C83-8C28-4D5C-8647-62CDCF52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8ECE-6E75-4912-9801-C7CD765C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2FFC0-BBFD-4980-AD5F-EFAA6902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F59-3F3C-4881-B3DB-A6F12C33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7142-A12B-4951-BFB4-1A84E86A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C27D-D532-4E3C-B588-B781C584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3B49D-8B23-4218-918B-C726E202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ABF8-28C3-4FBD-960B-FE19467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1954-9F0F-493F-B3A3-1E8F0AD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5A88-E64E-4156-8F73-C1EF1F1D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89BCC-58A8-4EA3-8DAF-F47EEE11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EF66-C45A-42DF-A409-0492DBF3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DF4EE-6831-47A3-BBF0-FD02EDDC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1F1E-E2D5-4307-B28D-13E16038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D86-7E50-4F49-87EF-9A3F8C2B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E2BE-7811-46EC-95AC-E6AF042F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3627-79A5-45AD-8BAA-0B0BFFE5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E00A-0229-491E-A94F-9EBD20A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3671-079F-4B2A-A2CE-A1B62387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6F863-55C7-441F-8896-EC3D11C1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103C-5B2D-4F01-AE1F-CDCC680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6906D-643B-44D1-A0C3-A1D61E89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7B4BC-2E34-4A58-9BA3-9F185B53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6CB4-E933-4D8A-B4D9-BBE1D4A1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DA1F-7327-422A-BD0C-5FC2CFED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7CB-9048-400D-B7FE-DA4D597E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88D94-4C37-4B59-BED8-F6127951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FB725-E30C-4B5F-A0FE-5F78755F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05034-0419-494B-9033-FBBFDAE1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B594A-94CE-41B0-95C8-791D0691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AC77D-6081-4CFD-8218-0548D49B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8CE7-C909-4C1C-BB62-F70769F0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8FFD4-C07A-4441-800E-A563DA71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21360-D2A4-4254-90A2-D13C249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E486-E0C6-45FD-AF53-AF173EC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D4D5D-92A8-4B20-9F82-29D513A0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B11-5394-49D7-B498-424B025C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DD719-60D8-4856-8CFB-0652AB49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2CD11-79B0-4784-9C90-68857406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AB974-E880-428E-9B8E-3DC4B337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B0DB-26C8-4EE1-9D2B-7C4985F7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ADD6D-BC8D-4142-BE5D-ED956491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FC08F-89BB-4F3B-9A4E-88D5EDF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2425A-2CD7-4897-A12C-E09FC6B2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017D-9B6B-4AA0-A548-B71C5E55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7958E-AC32-4904-9B7A-9E9522A4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B46A-1900-48E1-8C5A-B83F4DA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4AD-0534-421E-8454-5508A9FC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1C271-61B9-4FE0-974F-1D3D3D3C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3FF97-9351-4911-B94B-9158D3E2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56D46-8C07-49E5-9E4F-9AFE19B7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AD1A2-0A89-46A6-B681-8068DEC9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F3EFB-F4FE-478D-828A-45DAF0A0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80190-DE5D-4D9A-8F54-B11A59BD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3BFA3-E123-4FFF-9A1D-C5AC097B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98E4A-1248-435E-BFAC-75E8813B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9A1E1-EE0F-44D2-9A38-17CAF591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5971-E27C-49C8-938B-FB37FB91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17A-56CA-4C4D-9484-61DDEC0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42BDF-2BF9-4DF6-B63B-F31E9D79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155D8-E7FE-4655-A0CD-EEA1D5F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D2CD-A0F5-4524-9EE3-2F18FC8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63647-C4B7-4508-BDAA-4E3E11B7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63671-0B0F-4E26-B075-69A59746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3ED2-04EA-4933-AA6E-E1B027A1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23AEF-E830-40CD-AE80-3111E121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6B826-7881-4F30-BEEA-D65BEB17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9EE93-4D16-49BE-9871-BA74BA47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E09EB-3B63-4192-9774-13B0A2BA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FB81-FF74-4F08-800A-7BDBC9455BF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657A-7074-4284-84C0-022A13F85E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2E86-77AD-438C-9A24-4EAC62BA80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4EB0-1469-4459-BE2A-343D6700CF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B350-E885-426F-931D-C618681B8A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E1B7-AE5D-44C0-BE34-A092B6D9C90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A7CD-BEF9-41D5-A33D-3EF356A084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A6E-6BBE-4002-8CA1-93759EE767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6C7A-0419-49F8-BACA-9F049A63AD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1471-CEB7-4E41-8C06-A98C9FE815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ABC8-A6E6-4A48-8024-3078C332579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4246-5343-4028-8533-C018371DAA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94CA-4CD9-449C-A8F9-069341F8EC4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PD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ethel</cp:lastModifiedBy>
  <dcterms:modified xsi:type="dcterms:W3CDTF">2015-04-24T12:35:03Z</dcterms:modified>
  <cp:revision>81</cp:revision>
  <dc:subject/>
  <dc:title>Presentación de PowerPoint</dc:title>
</cp:coreProperties>
</file>